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508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887400" y="46720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CF12415-3603-4ECC-87B2-FA4E468038D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87400" y="4672080"/>
            <a:ext cx="48880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nte di tutto, cioè a monte della ricerca e della visualizzazione di dati, … c’è il servizio più importante, cioè quello che permette di descrivere le informa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’ il modulo di compilazione di metadati, cioè delle schede che descrivono le informazioni disponibili presso i vari enti, e attraverso il quale si alimenta il catalo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modulo è composto da semplici pagine web, in cui è possibile compilare i dati che descrivono le informazioni disponibili (chi le gestisce, a chi rivolgersi, l’aggiornamento, se e come sono accessibili,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87400" y="4672080"/>
            <a:ext cx="48880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motore sw è lo stesso, ma le pagine di ricerca appaiono diverse a seconda del sito web in cu imi sto muovendo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87400" y="4672080"/>
            <a:ext cx="48880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nte di tutto, cioè a monte della ricerca e della visualizzazione di dati, … c’è il servizio più importante, cioè quello che permette di descrivere le informa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’ il modulo di compilazione di metadati, cioè delle schede che descrivono le informazioni disponibili presso i vari enti, e attraverso il quale si alimenta il catalo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modulo è composto da semplici pagine web, in cui è possibile compilare i dati che descrivono le informazioni disponibili (chi le gestisce, a chi rivolgersi, l’aggiornamento, se e come sono accessibili,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87400" y="4672080"/>
            <a:ext cx="48880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nte di tutto, cioè a monte della ricerca e della visualizzazione di dati, … c’è il servizio più importante, cioè quello che permette di descrivere le informa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’ il modulo di compilazione di metadati, cioè delle schede che descrivono le informazioni disponibili presso i vari enti, e attraverso il quale si alimenta il catalo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modulo è composto da semplici pagine web, in cui è possibile compilare i dati che descrivono le informazioni disponibili (chi le gestisce, a chi rivolgersi, l’aggiornamento, se e come sono accessibili,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25040" y="37004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5272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8292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44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2504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8292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44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25040" y="2136240"/>
            <a:ext cx="7859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92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7859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456840"/>
            <a:ext cx="914400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92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25040" y="2136240"/>
            <a:ext cx="7859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929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5272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25040" y="37004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5272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8292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044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2504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8292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044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7859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456840"/>
            <a:ext cx="914400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929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5272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gion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5040" y="2136240"/>
            <a:ext cx="7859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0808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499400" indent="-2192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901520" indent="-219240">
              <a:spcBef>
                <a:spcPts val="601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901520" indent="-21924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901520" indent="-21924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5696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7/11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00200" y="6202440"/>
            <a:ext cx="156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igi Garret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berta Luc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lvana Grif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52680" y="63234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ferenza nazionale ASITA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212680" y="4608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0" y="905040"/>
            <a:ext cx="914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548560" y="5867280"/>
            <a:ext cx="811440" cy="304560"/>
            <a:chOff x="8548560" y="5867280"/>
            <a:chExt cx="811440" cy="304560"/>
          </a:xfrm>
        </p:grpSpPr>
        <p:sp>
          <p:nvSpPr>
            <p:cNvPr id="9" name=""/>
            <p:cNvSpPr/>
            <p:nvPr/>
          </p:nvSpPr>
          <p:spPr>
            <a:xfrm>
              <a:off x="8548560" y="5913360"/>
              <a:ext cx="81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0F81D13-BDD0-4D70-ABDD-56A0501711B5}" type="slidenum"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1280" y="5867280"/>
              <a:ext cx="30456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gionecover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944720"/>
            <a:ext cx="9144000" cy="36360"/>
          </a:xfrm>
          <a:prstGeom prst="rect">
            <a:avLst/>
          </a:prstGeom>
          <a:solidFill>
            <a:srgbClr val="ff0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687920"/>
            <a:ext cx="9144000" cy="36360"/>
          </a:xfrm>
          <a:prstGeom prst="rect">
            <a:avLst/>
          </a:prstGeom>
          <a:solidFill>
            <a:srgbClr val="ff0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929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29294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333440" algn="ctr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1752480" algn="ctr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228564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La condivisione delle informazioni geografiche: standard ed interoperabilità per l’infrastruttura di dati spaziali SITAD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200040" y="6858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9294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929294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929294"/>
                </a:solidFill>
                <a:latin typeface="Arial"/>
              </a:rPr>
              <a:t> CONFERENZA NAZIONALE</a:t>
            </a:r>
            <a:endParaRPr b="0" lang="en-US" sz="2000" spc="-1" strike="noStrike">
              <a:solidFill>
                <a:srgbClr val="929294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9294"/>
                </a:solidFill>
                <a:latin typeface="Arial"/>
              </a:rPr>
              <a:t>ASITA 2006</a:t>
            </a:r>
            <a:endParaRPr b="0" lang="en-US" sz="2000" spc="-1" strike="noStrike">
              <a:solidFill>
                <a:srgbClr val="929294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Bolzano, 17 novembre 2006</a:t>
            </a:r>
            <a:endParaRPr b="0" lang="en-US" sz="2000" spc="-1" strike="noStrike">
              <a:solidFill>
                <a:srgbClr val="929294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1720" y="5486040"/>
            <a:ext cx="69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uigi Garretti    Roberta Lucà      Silvana Griff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Regione Piemonte        CSI Piemonte          CSI Piemonte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783560" y="4913280"/>
            <a:ext cx="74520" cy="74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783560" y="4913280"/>
            <a:ext cx="74520" cy="74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114800" y="24382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roperabilità “tecnologic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990720"/>
            <a:ext cx="71629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Usabilità interfacce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3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Worl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d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orti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523880" y="1981080"/>
            <a:ext cx="5518440" cy="4005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rcRect l="0" t="0" r="0" b="3199"/>
          <a:stretch/>
        </p:blipFill>
        <p:spPr>
          <a:xfrm>
            <a:off x="2019240" y="2158920"/>
            <a:ext cx="5518080" cy="400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rcRect l="0" t="0" r="0" b="3376"/>
          <a:stretch/>
        </p:blipFill>
        <p:spPr>
          <a:xfrm>
            <a:off x="2641680" y="2349360"/>
            <a:ext cx="533376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roperabilità “giuridic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828800"/>
            <a:ext cx="785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gni ente pubblic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ode di un proprio margine di discrezionalità nell’esercizio delle funzioni ad esso affi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testo normativo risulta spesso frammentar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n è sempre chiaro a chi spettino la titolarità e i diritti sui prodotti e sui servizi informativi territoria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0240" y="3657600"/>
            <a:ext cx="77979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cessità d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urare un contesto regolamentare omogeneo che definisca regole, ruoli e responsabilità comuni, e che sia allo stesso temp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incola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per gli utenti m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lessibi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ed adattabile alle evoluzioni della legislazione nazionale e comunit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556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La Disciplina d’uso del dato geograf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7859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“Disciplina d’uso del dato geografico” pone l’attenzione su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828800"/>
            <a:ext cx="785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ttori e attiv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autenticazione, identificazione e profilatura degli ut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sciplina della Proprietà Intellettu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tura e disciplina degli “oggetti” contenuti nel SITAD (informazioni, prodotti e servizi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chi gestisce i d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chi consulta i d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 e protocol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formule uniformi per liberatorie 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sponsabilità per danni a terze par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compilazion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n-li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moduli che riportano i nomi di tutti i soggetti coinvolti e la validità delle informazioni condivise (ente responsabile, autore, gestore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roperabilità “giuridic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198108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“Disciplina d’uso del dato geografico” è stata realizzata in modo da essere pronta al recepimento delle principali direttive comunitarie, tra cui la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Direttiva “INSPIRE”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ed il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D.Lgs. 36/2006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di attuazione della Direttiva comunitaria 2003/98 sul “Riutilizzo delle informazioni nel settore pubblico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4038480"/>
            <a:ext cx="3962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roperabilità “giuridic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roperabilità “socia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143000"/>
            <a:ext cx="556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Inizi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NIP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Commissione di Coordinamento delle SDIC italiane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pertorio Nazionale dei Dati Territori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“Linee guida per l’applicazione dello Standard ISO 19115: Geographic Information - Metadata”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tesaG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“Specifiche per la realizzazione dei Data Base Topografici di Interesse Genera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NINF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- Cooperazione con ISO/TC 211 e CEN/TC 2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RC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Joint Research Centr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ISI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Geographical Information Systems International Group)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I-INDEED (Geo-Information in the Implementation of Net-based Distance Education for Environmental Decision-making)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roperabilità “socia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143000"/>
            <a:ext cx="556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Eve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752480"/>
            <a:ext cx="7772400" cy="36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ll for proposals 2005/06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l’interno del programma europe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Content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zione alle edizioni 2004/05/06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C-GI&amp;GIS Worksh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zione alle edizioni 2004/05 di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Challe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zione alle edizioni 2003/04/05/06 di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zione all’edizione 2006 del convegno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M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zazione del Workshop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Spunti per una riflessione sulla disciplina d'uso del dato geografico”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l luglio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590920" y="1600200"/>
            <a:ext cx="5866920" cy="3429000"/>
            <a:chOff x="2590920" y="1600200"/>
            <a:chExt cx="5866920" cy="3429000"/>
          </a:xfrm>
        </p:grpSpPr>
        <p:sp>
          <p:nvSpPr>
            <p:cNvPr id="160" name=""/>
            <p:cNvSpPr/>
            <p:nvPr/>
          </p:nvSpPr>
          <p:spPr>
            <a:xfrm>
              <a:off x="2590920" y="1600200"/>
              <a:ext cx="4108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Workshop di promo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3505320"/>
              <a:ext cx="4097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Workshop di form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43200" y="2362320"/>
              <a:ext cx="618480" cy="533520"/>
            </a:xfrm>
            <a:prstGeom prst="rightArrow">
              <a:avLst>
                <a:gd name="adj1" fmla="val 50000"/>
                <a:gd name="adj2" fmla="val 28981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3200" y="4038840"/>
              <a:ext cx="618480" cy="533160"/>
            </a:xfrm>
            <a:prstGeom prst="rightArrow">
              <a:avLst>
                <a:gd name="adj1" fmla="val 50000"/>
                <a:gd name="adj2" fmla="val 29001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04960" y="2362320"/>
              <a:ext cx="4582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contri settimanali con 220 tecnici di comuni medio-piccol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9000" y="4114800"/>
              <a:ext cx="5028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contri di affiancam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contri tematici (GIS Day 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petti giuridico-normativi relativi all'utilizzo e alla tutela delle banche dati territoriali” e Workshop “Spunti per una riflessione sulla disciplina d’uso del dato geografico”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33520" y="2286000"/>
            <a:ext cx="304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sh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31240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roupwa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962520"/>
            <a:ext cx="3962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ewslet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590920" y="1523880"/>
            <a:ext cx="6172200" cy="4724640"/>
            <a:chOff x="2590920" y="1523880"/>
            <a:chExt cx="6172200" cy="472464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2590920" y="1523880"/>
              <a:ext cx="601992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ricsitad1" descr=""/>
            <p:cNvPicPr/>
            <p:nvPr/>
          </p:nvPicPr>
          <p:blipFill>
            <a:blip r:embed="rId2"/>
            <a:stretch/>
          </p:blipFill>
          <p:spPr>
            <a:xfrm>
              <a:off x="3810240" y="2478240"/>
              <a:ext cx="4952880" cy="37702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72" name=""/>
          <p:cNvGraphicFramePr/>
          <p:nvPr/>
        </p:nvGraphicFramePr>
        <p:xfrm>
          <a:off x="4419720" y="1386000"/>
          <a:ext cx="3279600" cy="463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386000"/>
                    <a:ext cx="32796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roperabilità “socia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066680"/>
            <a:ext cx="556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Strumenti di diffu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60020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SDIC  raggruppano le esperienze di Utilizzatori, Produttori e Trasformatori di dati geografici, competenze tecniche, risorse finanziarie e politiche, con l’obiettivo di usare meglio queste risorse per la gestione dei dati geografici e lo sviluppo e l’utilizzo di servizi territor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2895480"/>
            <a:ext cx="8153280" cy="28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SDIC sono direttamente coinvolte nell’elaborazione delle disposizioni operative (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Implementing Rule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 con ruoli divers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finizione casi d’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tecipazione diretta con documentazione ed esperti nei Drafting Tea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rtecipazione ai processi di revi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mplementazione di progetti pil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ffusione e promozione del programma INS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roperabilità “socia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143000"/>
            <a:ext cx="556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La SDIC SITAD di Sistema Piemo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1163520"/>
            <a:ext cx="783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Partecipazione attiva con un esperto all’interno del DT “Data Specifications”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544760"/>
            <a:ext cx="78390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iettivi del DT: definire le disposizioni operative p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 specifiche armonizzate per i dati territor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 scambio di dati territoria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ndo tra l’altr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 modello concettuale di rifer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linee guida per l’utilizzo del modello e della metodologia per sviluppare le specifiche per i dati territor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regole di generalizzazione per gestire scale diver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codifiche per lo scambi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4440240"/>
            <a:ext cx="78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ffusione e promozione del progetto INSPI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4897440"/>
            <a:ext cx="7543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Aft>
                <a:spcPts val="601"/>
              </a:spcAft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eando e aumentando la consapevolezza tra i membri della S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rtecipando e promuovendo iniziative speci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roperabilità “socia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71600" y="1981080"/>
            <a:ext cx="6400800" cy="27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utte le azioni e le decisioni prese si inseriscono in un progetto più ampio, che prevede la realizzazione di una sorta di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issemination Pla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he consenta il superamento della dimensione strettamente locale, favorendo così il confronto, lo scambio ed il riuso delle informazioni territoriali a livello nazionale ed internazionale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ommari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859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biet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4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operabilità “tecnologica”: la SDI  SITAD e gli standar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operabilità “giuridica”: disciplina d’uso del dato geograf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operabilità “sociale”: iniziative e strumen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62120" y="457200"/>
            <a:ext cx="81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Riferi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371600"/>
            <a:ext cx="670572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uigi GARRET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gione Piemonte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rso Bolzano 44, Torino, Ita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luigi.garretti@regione.piemonte.it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- </a:t>
            </a:r>
            <a:r>
              <a:rPr b="0" i="1" lang="it-IT" sz="16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www.regione.piemonte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oberta LUC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SI Piemonte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rso Tazzoli 215, Torino, Ita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roberta.luca@csi.it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- </a:t>
            </a:r>
            <a:r>
              <a:rPr b="0" i="1" lang="it-IT" sz="16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www.csi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lvana GRIF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SI Piemonte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rso Tazzoli 215, Torino, Ita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silvana.griffa@csi.it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- </a:t>
            </a:r>
            <a:r>
              <a:rPr b="0" i="1" lang="it-IT" sz="16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www.csi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biet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295280"/>
            <a:ext cx="739116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l contesto europeo che si sta delineando in questi ultimi anni impone la necessità di realizzare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Infrastrutture di Dati Spazi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che offrano un elevato grado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operabil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, indispensabile per la condivisione delle informazioni geografiche a livello nazionale ed internazion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4038480"/>
            <a:ext cx="7391520" cy="1639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OPERABILITY: Capability to communicate, execute programs, or transfer data among various functional units in a manner that requires the user to have little or no knowledge of the unique characteristics of those un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[ISO1911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3657600"/>
            <a:ext cx="8076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lvl="1" marL="571680" algn="just"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 realizzazione di un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Infrastruttura di Dati Geografici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er promuovere l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divisi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e l'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scambi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di informazioni spaziali, che costituisca l’infrastruttura tecnologica del Sistema Informativo Geografico, punto di raccolta organizzata del patrimonio di conoscenze disponibile presso gli Enti della PA piemonte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91440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frastruttura dell’informazione geografica d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ubblica Amministrazione piemont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2438280"/>
            <a:ext cx="1828800" cy="914400"/>
          </a:xfrm>
          <a:prstGeom prst="downArrowCallout">
            <a:avLst>
              <a:gd name="adj1" fmla="val 50005"/>
              <a:gd name="adj2" fmla="val 50000"/>
              <a:gd name="adj3" fmla="val 16667"/>
              <a:gd name="adj4" fmla="val 6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biet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biet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143000"/>
            <a:ext cx="77724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825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zazione dell’Infrastruttura di Dati Spaziali SITAD attraverso l’applicazione dei principali standard europei (</a:t>
            </a: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interoperabilità tecnologic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zione delle “regole” per la partecipazione al sistema attraverso la Disciplina d’uso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interoperabilità giuridic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ecipazione ad iniziative e strumenti di disseminazione in modo da coinvolgere una sempre più ampi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tà di utenti sui temi geografici, portatori di interessi comuni su problematiche specifich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interoperabilità socia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1676520"/>
            <a:ext cx="824076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20968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5000"/>
              </a:lnSpc>
              <a:spcBef>
                <a:spcPts val="825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ta di Direttiva della Commissione Europea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PIRE</a:t>
            </a:r>
            <a:r>
              <a:rPr b="0" lang="it-IT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rastructure for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P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tial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fo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tion in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rop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5000"/>
              </a:lnSpc>
              <a:spcBef>
                <a:spcPts val="825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DIC (Spatial Data Interest Communit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5000"/>
              </a:lnSpc>
              <a:spcBef>
                <a:spcPts val="825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MO (Legally Mandated Organis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5000"/>
              </a:lnSpc>
              <a:spcBef>
                <a:spcPts val="825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“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sperto” per Drafting Team “Spatial data specifications and harmonisation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5000"/>
              </a:lnSpc>
              <a:spcBef>
                <a:spcPts val="825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ITAD come progetto pilota INSP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roperabilità “tecnologic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295280"/>
            <a:ext cx="777240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 SDI SITAD è stata realizzata in linea con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roperabilità “tecnologic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2793960"/>
            <a:ext cx="67816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dice della PA digit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825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tesaG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825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NIPA - Comitato per il coordinamento informatico dei dati territori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825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pertorio nazionale dei dati territori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825"/>
              </a:spcBef>
              <a:buClr>
                <a:srgbClr val="ff33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219320"/>
            <a:ext cx="830556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d in coerenza con le diverse iniziative e disposizioni promosse e stabilite in sede nazionale in materia di dati geografici informatic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roperabilità “tecnologic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523880"/>
            <a:ext cx="457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Metadocumentazion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DUBLINCORE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SO 1117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990720"/>
            <a:ext cx="800100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Stand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8600" y="2610000"/>
            <a:ext cx="8282160" cy="3495600"/>
            <a:chOff x="228600" y="2610000"/>
            <a:chExt cx="8282160" cy="34956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rcRect l="18116" t="34567" r="19258" b="10456"/>
            <a:stretch/>
          </p:blipFill>
          <p:spPr>
            <a:xfrm>
              <a:off x="3200400" y="2610000"/>
              <a:ext cx="5310360" cy="349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"/>
            <p:cNvGrpSpPr/>
            <p:nvPr/>
          </p:nvGrpSpPr>
          <p:grpSpPr>
            <a:xfrm>
              <a:off x="228600" y="5105520"/>
              <a:ext cx="2670120" cy="672840"/>
              <a:chOff x="228600" y="5105520"/>
              <a:chExt cx="2670120" cy="672840"/>
            </a:xfrm>
          </p:grpSpPr>
          <p:pic>
            <p:nvPicPr>
              <p:cNvPr id="1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9480" y="5486400"/>
                <a:ext cx="2055960" cy="28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228600" y="5105520"/>
                <a:ext cx="267012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metadato di I livello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4724280" y="201132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 ISO 191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382840"/>
            <a:ext cx="7619760" cy="3789360"/>
            <a:chOff x="228600" y="2382840"/>
            <a:chExt cx="7619760" cy="3789360"/>
          </a:xfrm>
        </p:grpSpPr>
        <p:pic>
          <p:nvPicPr>
            <p:cNvPr id="126" name="" descr=""/>
            <p:cNvPicPr/>
            <p:nvPr/>
          </p:nvPicPr>
          <p:blipFill>
            <a:blip r:embed="rId3"/>
            <a:srcRect l="18014" t="14315" r="19258" b="8680"/>
            <a:stretch/>
          </p:blipFill>
          <p:spPr>
            <a:xfrm>
              <a:off x="3733560" y="2382840"/>
              <a:ext cx="4114800" cy="378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228600" y="3733920"/>
              <a:ext cx="2819160" cy="931680"/>
              <a:chOff x="228600" y="3733920"/>
              <a:chExt cx="2819160" cy="931680"/>
            </a:xfrm>
          </p:grpSpPr>
          <p:pic>
            <p:nvPicPr>
              <p:cNvPr id="128" name="logo_iso" descr=""/>
              <p:cNvPicPr/>
              <p:nvPr/>
            </p:nvPicPr>
            <p:blipFill>
              <a:blip r:embed="rId4"/>
              <a:stretch/>
            </p:blipFill>
            <p:spPr>
              <a:xfrm>
                <a:off x="861840" y="4114800"/>
                <a:ext cx="1424160" cy="55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228600" y="3733920"/>
                <a:ext cx="2819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metadato di II livello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57240" y="457200"/>
            <a:ext cx="8186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roperabilità “tecnologic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066680"/>
            <a:ext cx="716256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teroperabilità dei dati… WMS… 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WFS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e servizi in   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cooperazione applica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Open Geospatial Consort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ricsitad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4114800" cy="341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91120" y="4419720"/>
            <a:ext cx="533160" cy="228600"/>
          </a:xfrm>
          <a:prstGeom prst="ellipse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9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49845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7:51:28Z</dcterms:created>
  <dc:creator>fb</dc:creator>
  <dc:description/>
  <dc:language>en-US</dc:language>
  <cp:lastModifiedBy>CSI Piemonte</cp:lastModifiedBy>
  <dcterms:modified xsi:type="dcterms:W3CDTF">2006-11-13T09:55:55Z</dcterms:modified>
  <cp:revision>167</cp:revision>
  <dc:subject/>
  <dc:title>Nessun titolo diapositiva</dc:title>
</cp:coreProperties>
</file>